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31A-3839-44CB-A842-3E47DF58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94A-4F1A-4B65-AC1E-29D29E7B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9604-09D5-4522-A01D-90BB718E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14B-7D8F-4F88-BF35-0BF15539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07A3-66F6-4395-B2F0-1C2E2E99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108E-CE5A-444B-A208-9DDA2638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5125-3E19-40F7-8F96-91E69AB8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DE87-6F0F-4590-8B95-E04218FE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54F4-4F1E-4766-ABC2-D49558A2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2462-329D-4167-A6E5-030DA951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D33D-4F1B-45B5-A613-037B9D46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31A-1825-4DDD-B68B-C8DABAA1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F86B-68AD-4334-A9F5-DA179F9A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5C96-6DB6-40A0-9D2B-CEC52F20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F401-5C5B-4F23-AD6E-0396EC5D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F41A-58A4-4E62-94BA-83D089AE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8343-5178-4A21-9EF4-431896D4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D77-D877-4624-90EE-169B4325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526-ED3A-4DFE-963D-D60B18D1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B0A-8607-4FFA-A796-A3B48F01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F5C-B01D-4D7A-98EE-EBACCD18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56F-3A1F-4993-926B-3B0EBBE0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08F-9BA0-4118-8688-D2ADC3AA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1D9-E556-463A-845F-E5DDC2EA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ahoma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Tahoma"/>
              </a:rPr>
              <a:t>Spring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5e574e"/>
                </a:solidFill>
                <a:latin typeface="Tahoma"/>
              </a:rPr>
              <a:t>CS 74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A535-C4EF-494D-82ED-4AA713028ACC}" type="slidenum">
              <a:rPr b="0" lang="en-US" sz="1400" spc="-1" strike="noStrike">
                <a:solidFill>
                  <a:srgbClr val="5e574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46438" b="0"/>
          <a:stretch/>
        </p:blipFill>
        <p:spPr>
          <a:xfrm>
            <a:off x="685800" y="914400"/>
            <a:ext cx="7597800" cy="455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52954" t="0" r="0" b="0"/>
          <a:stretch/>
        </p:blipFill>
        <p:spPr>
          <a:xfrm>
            <a:off x="8229600" y="914400"/>
            <a:ext cx="58248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4407-847B-44E3-BBBB-A646A19F229C}" type="slidenum">
              <a:rPr b="0" lang="en-US" sz="1400" spc="-1" strike="noStrike">
                <a:solidFill>
                  <a:srgbClr val="5e574e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46438" b="0"/>
          <a:stretch/>
        </p:blipFill>
        <p:spPr>
          <a:xfrm>
            <a:off x="666720" y="2209680"/>
            <a:ext cx="7597800" cy="455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52954" t="0" r="0" b="0"/>
          <a:stretch/>
        </p:blipFill>
        <p:spPr>
          <a:xfrm>
            <a:off x="8256600" y="2211480"/>
            <a:ext cx="582480" cy="45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ftercare Support System Desig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5812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a K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rish Venkate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jay Ramnath Jayara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ur Solu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3526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2590920" cy="22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638680" y="3124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00400" y="2590920"/>
            <a:ext cx="2514600" cy="2209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19920" y="2362320"/>
            <a:ext cx="3124080" cy="2381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666880" y="327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stions &amp; Comments ??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95120" y="3808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ssue #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ients are unable to understand discharge diagnosis and thus do not adhere to medical ad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ing additional visual illustrations improves patient’s understanding of their diagn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idence suggests that there has been 20% increase (65%:43%) when provided with visual illust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s with no-educational background are found to have greater effect (1.8 time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Visual Illustration Examp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953240" cy="491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647712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: Annals of Emergency Medicine, Vol 25 Issue 3 Year 1995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ssue #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ients are un-able to follow up as instructed by the ED staf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4% of the patients are unable to obtain an appoint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% “feel” that the symptoms are g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% are unalarmed by the sympto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% do not understand the seriousn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% do not understand the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% oth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647712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: Annals of Emergency Medicine, Vol 34 Issue 5 Yea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llow up rates and find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191440" cy="403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" y="640080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: Annals of Emergency Medicine, Vol 34 Issue 5 Yea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blem Stateme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Patients leave the hospital without comprehension of discharge diagnosis which commonly results 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Patients not adhering to medical ad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Ineffective Follow up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28954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lution #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6840" y="1447560"/>
            <a:ext cx="8178840" cy="2227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3828960"/>
            <a:ext cx="817884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icrosoft Computer – on – wheels for the patients to visually see the diagn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graphical/visual illustrations to make them understand the significance of me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formation on key unknown te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743200" y="1295280"/>
            <a:ext cx="3581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lution #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6840" y="1447560"/>
            <a:ext cx="8178840" cy="2227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3828960"/>
            <a:ext cx="817884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phone alarms and follow-ups so that the patients are reminded weekly about the medication and appoin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124080" y="1523880"/>
            <a:ext cx="2514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lution#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6840" y="1447560"/>
            <a:ext cx="8178840" cy="222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3809880"/>
            <a:ext cx="817884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-based personal medication discharge system providing patient specific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llows patients to know more about the treatments and follow 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819520" y="1371600"/>
            <a:ext cx="31240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22:36:58Z</dcterms:created>
  <dc:creator>Jim Foley</dc:creator>
  <dc:description/>
  <dc:language>en-US</dc:language>
  <cp:lastModifiedBy>Girish</cp:lastModifiedBy>
  <dcterms:modified xsi:type="dcterms:W3CDTF">2008-10-09T16:08:05Z</dcterms:modified>
  <cp:revision>14</cp:revision>
  <dc:subject/>
  <dc:title>PowerPoint Presentation</dc:title>
</cp:coreProperties>
</file>